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jeopardy_theme.wav" ContentType="audio/x-wav"/>
  <Override PartName="/ppt/media/image2.jpeg" ContentType="image/jpeg"/>
  <Override PartName="/ppt/media/chime.wav" ContentType="audio/x-wav"/>
  <Override PartName="/ppt/media/thinkmusic.wav" ContentType="audio/x-wav"/>
  <Override PartName="/ppt/media/final_answer.wav" ContentType="audio/x-wav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7FE5-4041-4E31-85B5-18960C6D7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E9BD-34B1-4151-8ACB-D689493A3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eopardy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 you begin editing, follow these step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Outside of PowerPoint, make a duplicate copy of the Jeopardy folder and place it in the final location on your hard dr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You can rename the Jeopardy folder, however do not change the names of the files it contai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Select View, Notes Page to edit the game and remain in that view to read notes on editing the ga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776F-6857-4A0F-B1A9-985AEDBAF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me Bo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 for each top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Do not change the location of the boxes or broken links will resul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To access the Final Jeopardy question, click the black border at the bottom of the game board once all questions are answe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3372-F4CB-4F8F-ADF5-6F8D5218E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Questio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D71C-1E90-4217-8BE8-248CE74CF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Answer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0BFD-77A3-43FA-88A8-1F1EE65D9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Question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E1AA-92D5-410B-A51B-CF04D10BB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Answe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017A-B9AC-458F-B1B4-45C8E8422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Question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1720-BDCB-4EF3-B29B-1D37307E8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Answer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33AF-7285-4C9F-B62D-7C0C79A48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Question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57C3-3E88-46D6-928B-BD4B06AF0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Answer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492C-5874-4186-8D89-FB7CB4F12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Question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4CAC-DC51-44BF-9AD6-FF1E4D5A2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ate Te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05A6-0BBE-4A71-A943-116125DF2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Answer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9BAF-33C1-4B4F-923F-5101905C3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Questio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C11A-7DA4-4001-80A7-D2F8EA925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Answer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F27E-7B7E-434C-BF55-753D68277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Question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3D32-8C0D-4CDA-A35D-F1EC1BB53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Answe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D973-3F7A-4A10-80E0-008661905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Question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B00F-4D94-41B6-9AA6-DD417E2EF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Answer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3B8F-FE14-41B3-BC45-5F3FBBD6F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Question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063A-0ECA-47BE-8491-9A0A5BB2E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Answer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6D7F-9F90-4B26-8926-41251F8C1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Question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7825-64C8-416D-A7E7-5FCD23E4F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d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usic will stop on this sl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ure all teams are ready to beg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 ready to introduce the top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7779-763B-4CC2-9D52-038ECC376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Answer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ABC0-EB26-4A62-BD8B-8D90DA999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Questio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5BE7-4832-4E29-89D2-8442370B4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Answer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E778-702E-446D-9C69-1C5A6F303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Question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935B-3BA9-4B6B-B112-FF61170DC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Answe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332A-25DA-4A93-8F29-AF707E730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Question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DCE4-7D0D-43D0-9B2A-B5410C95C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Answer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3359-0E5B-46C3-B54C-AFF575E5E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Question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3290-AC7F-45A3-A2D4-5C1F4DA9B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Answer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3F17-7FE3-445D-A983-5DB06582C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Question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0E8F-CB88-4DBC-941D-8C897746C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B223-51D7-4FBD-9DD0-71F5DC8BA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Answer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CDE0-4850-4319-AA8E-7ED2E4826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Questio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D58E-F030-4744-91FA-E8B09A2A2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Answer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17A0-C269-4F00-B34D-809005A5C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Question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0C5F-3D62-4F7A-ADAE-427B234A6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Answe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F86D-D276-4615-BCD2-A54A4B374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Question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084D-C106-4943-8C3D-E5E685C99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Answer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1CE2-4AD7-41DC-836E-56332244A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Question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14BF-3F3C-4C1E-994C-F51901A37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Answer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08B5-8BCD-46B4-827B-38F67DDA1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Question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BC77-1E2B-4B1A-A4F1-214E199AC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7595-64F7-4FDD-AD85-FDEC921C6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Answer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55C4-AB12-41C8-8709-9F705F0CB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Questio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C598-EDC1-43D7-B8BA-DD9978059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Answer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B12C-2708-4507-B422-77B30E523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Question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0934-7347-4776-BABC-456FD2A6F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Answe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3FCC-DC84-44FA-8140-99AC4CEE8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Question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277C-0FFE-424D-8D91-7DFAA7849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Answer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D793-AAB4-4FAF-8D2F-A1C1E5813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Question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BA92-583D-4669-9814-8083E20BA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Answer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6B5C-CFBD-4F0F-A44B-352BF511D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Question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A738-5EA8-4CC0-BE02-6A8A2C477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BF9B-A0AF-4E25-9257-0470C64E0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Answer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330C-3143-43C1-89A0-F0775562D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Questio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292D-B7C2-4218-8ADF-D641F78DB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Answer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7DCD-A274-467F-B0E5-3F18E7968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Question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B5C0-44D5-4B7B-960A-14F34CADE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Answe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188A-DA5E-40C2-B27B-90BB6AAEB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Question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4991-EC0E-42EB-867A-D607E8AE7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Answer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B854-5B78-4031-ACAD-3850F1DCE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Question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1C0E-6D17-4232-90EE-464F3008F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Answer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5A4A-4040-4C3D-89E4-5B0CCCA07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Question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5AFD-E7D8-4497-807E-C1EFD5B71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A431-83AF-47B1-8A10-AD92BC3C1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Answer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5B16-2102-4D30-B395-4D4080C4B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iminate teams that have scores of zero or l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he view the Final Jeopardy top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D14F-5C0B-4D74-948C-F0BE77CB3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 Jeopardy Top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Have teams make their wager once the topic is presented. Click to view the question and begin the mus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9A6C-DB12-4DCC-BA6D-28AF5E971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 Jeopardy Ques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Click when the music ends to view the ans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F064-E9BB-4A43-AF33-FD5AC0BE4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 Jeopardy Ans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6D67-083B-4888-8BD0-379A03D1E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ily Doubl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ll slides are complete, follow these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reate each of the two Daily Dou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ight-click and select 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o to the question slide you want to make a Daily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Click the question to select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elect Slide Show, Custom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On the right, select Add Effect, Entrance, App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Select Edit, P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Center the Daily Double box on th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On the right, click the Up arrow at the bottom to move the Daily Double to the top of the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9677-35A1-4447-B97B-72872F287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2EB2-7268-4D94-8DB9-5BF4259EB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0" y="3582000"/>
            <a:ext cx="91440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8576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91680" y="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83360" y="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0" y="358200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91680" y="358200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183360" y="358200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576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582000"/>
            <a:ext cx="91440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80000"/>
          </a:bodyPr>
          <a:p>
            <a:pPr marL="274320"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 algn="ctr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2" marL="274320" indent="-274320"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3" marL="274320" indent="-274320" algn="ctr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4" marL="274320" indent="-274320" algn="ctr"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5" marL="274320" indent="-274320" algn="ctr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6" marL="274320" indent="-274320" algn="ctr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eopardy_them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17.xml"/><Relationship Id="rId4" Type="http://schemas.openxmlformats.org/officeDocument/2006/relationships/slide" Target="slide19.xml"/><Relationship Id="rId5" Type="http://schemas.openxmlformats.org/officeDocument/2006/relationships/slide" Target="slide11.xml"/><Relationship Id="rId6" Type="http://schemas.openxmlformats.org/officeDocument/2006/relationships/slide" Target="slide23.xml"/><Relationship Id="rId7" Type="http://schemas.openxmlformats.org/officeDocument/2006/relationships/slide" Target="slide25.xml"/><Relationship Id="rId8" Type="http://schemas.openxmlformats.org/officeDocument/2006/relationships/slide" Target="slide27.xml"/><Relationship Id="rId9" Type="http://schemas.openxmlformats.org/officeDocument/2006/relationships/slide" Target="slide29.xml"/><Relationship Id="rId10" Type="http://schemas.openxmlformats.org/officeDocument/2006/relationships/slide" Target="slide21.xml"/><Relationship Id="rId11" Type="http://schemas.openxmlformats.org/officeDocument/2006/relationships/slide" Target="slide33.xml"/><Relationship Id="rId12" Type="http://schemas.openxmlformats.org/officeDocument/2006/relationships/slide" Target="slide35.xml"/><Relationship Id="rId13" Type="http://schemas.openxmlformats.org/officeDocument/2006/relationships/slide" Target="slide37.xml"/><Relationship Id="rId14" Type="http://schemas.openxmlformats.org/officeDocument/2006/relationships/slide" Target="slide39.xml"/><Relationship Id="rId15" Type="http://schemas.openxmlformats.org/officeDocument/2006/relationships/slide" Target="slide31.xml"/><Relationship Id="rId16" Type="http://schemas.openxmlformats.org/officeDocument/2006/relationships/slide" Target="slide43.xml"/><Relationship Id="rId17" Type="http://schemas.openxmlformats.org/officeDocument/2006/relationships/slide" Target="slide45.xml"/><Relationship Id="rId18" Type="http://schemas.openxmlformats.org/officeDocument/2006/relationships/slide" Target="slide47.xml"/><Relationship Id="rId19" Type="http://schemas.openxmlformats.org/officeDocument/2006/relationships/slide" Target="slide49.xml"/><Relationship Id="rId20" Type="http://schemas.openxmlformats.org/officeDocument/2006/relationships/slide" Target="slide41.xml"/><Relationship Id="rId21" Type="http://schemas.openxmlformats.org/officeDocument/2006/relationships/slide" Target="slide53.xml"/><Relationship Id="rId22" Type="http://schemas.openxmlformats.org/officeDocument/2006/relationships/slide" Target="slide55.xml"/><Relationship Id="rId23" Type="http://schemas.openxmlformats.org/officeDocument/2006/relationships/slide" Target="slide57.xml"/><Relationship Id="rId24" Type="http://schemas.openxmlformats.org/officeDocument/2006/relationships/slide" Target="slide59.xml"/><Relationship Id="rId25" Type="http://schemas.openxmlformats.org/officeDocument/2006/relationships/slide" Target="slide51.xml"/><Relationship Id="rId26" Type="http://schemas.openxmlformats.org/officeDocument/2006/relationships/slide" Target="slide63.xml"/><Relationship Id="rId27" Type="http://schemas.openxmlformats.org/officeDocument/2006/relationships/slide" Target="slide65.xml"/><Relationship Id="rId28" Type="http://schemas.openxmlformats.org/officeDocument/2006/relationships/slide" Target="slide67.xml"/><Relationship Id="rId29" Type="http://schemas.openxmlformats.org/officeDocument/2006/relationships/slide" Target="slide69.xml"/><Relationship Id="rId30" Type="http://schemas.openxmlformats.org/officeDocument/2006/relationships/slide" Target="slide61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chim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thinkmusic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audio" Target="../media/final_answ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Bar dir="vert"/>
    <p:sndAc>
      <p:stSnd>
        <p:snd r:embed="rId2" name="jeopardy_them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82520" y="258120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82520" y="363996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82520" y="46990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3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82520" y="575784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4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82520" y="182520"/>
            <a:ext cx="1371600" cy="1189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</a:rPr>
              <a:t>Photosynthesis</a:t>
            </a: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662120" y="182520"/>
            <a:ext cx="1371600" cy="1189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Root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143160" y="182520"/>
            <a:ext cx="1371600" cy="1189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em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624560" y="182520"/>
            <a:ext cx="1371600" cy="1189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eav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105600" y="182520"/>
            <a:ext cx="1371600" cy="1189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RANDOM</a:t>
            </a:r>
            <a:endParaRPr b="0" lang="en-US" sz="1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7586640" y="182520"/>
            <a:ext cx="1371600" cy="1189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OTHER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182520" y="15238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5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1662120" y="258120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1662120" y="363996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7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1662120" y="46990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1662120" y="575784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9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1662120" y="15238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0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3143160" y="258120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1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3143160" y="363996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2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3143160" y="46990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3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3143160" y="575784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4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3143160" y="15238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5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" name="Text Box 23"/>
          <p:cNvSpPr/>
          <p:nvPr/>
        </p:nvSpPr>
        <p:spPr>
          <a:xfrm>
            <a:off x="4624560" y="258120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4" name="Text Box 24"/>
          <p:cNvSpPr/>
          <p:nvPr/>
        </p:nvSpPr>
        <p:spPr>
          <a:xfrm>
            <a:off x="4624560" y="363996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7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Text Box 25"/>
          <p:cNvSpPr/>
          <p:nvPr/>
        </p:nvSpPr>
        <p:spPr>
          <a:xfrm>
            <a:off x="4624560" y="46990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8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Text Box 26"/>
          <p:cNvSpPr/>
          <p:nvPr/>
        </p:nvSpPr>
        <p:spPr>
          <a:xfrm>
            <a:off x="4624560" y="575784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9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4624560" y="15238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0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" name="Text Box 28"/>
          <p:cNvSpPr/>
          <p:nvPr/>
        </p:nvSpPr>
        <p:spPr>
          <a:xfrm>
            <a:off x="6105600" y="258120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1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" name="Text Box 29"/>
          <p:cNvSpPr/>
          <p:nvPr/>
        </p:nvSpPr>
        <p:spPr>
          <a:xfrm>
            <a:off x="6105600" y="363996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2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Text Box 30"/>
          <p:cNvSpPr/>
          <p:nvPr/>
        </p:nvSpPr>
        <p:spPr>
          <a:xfrm>
            <a:off x="6105600" y="46990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3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1" name="Text Box 31"/>
          <p:cNvSpPr/>
          <p:nvPr/>
        </p:nvSpPr>
        <p:spPr>
          <a:xfrm>
            <a:off x="6105600" y="575784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4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2" name="Rectangle 32"/>
          <p:cNvSpPr/>
          <p:nvPr/>
        </p:nvSpPr>
        <p:spPr>
          <a:xfrm>
            <a:off x="6105600" y="15238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5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Text Box 33"/>
          <p:cNvSpPr/>
          <p:nvPr/>
        </p:nvSpPr>
        <p:spPr>
          <a:xfrm>
            <a:off x="7586640" y="258120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" name="Text Box 34"/>
          <p:cNvSpPr/>
          <p:nvPr/>
        </p:nvSpPr>
        <p:spPr>
          <a:xfrm>
            <a:off x="7586640" y="363996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7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" name="Text Box 35"/>
          <p:cNvSpPr/>
          <p:nvPr/>
        </p:nvSpPr>
        <p:spPr>
          <a:xfrm>
            <a:off x="7586640" y="46990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8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" name="Text Box 36"/>
          <p:cNvSpPr/>
          <p:nvPr/>
        </p:nvSpPr>
        <p:spPr>
          <a:xfrm>
            <a:off x="7586640" y="575784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9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Rectangle 37"/>
          <p:cNvSpPr/>
          <p:nvPr/>
        </p:nvSpPr>
        <p:spPr>
          <a:xfrm>
            <a:off x="7586640" y="15238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30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8" name="Rectangle 38">
            <a:hlinkClick r:id="rId31" action="ppaction://hlinksldjump"/>
          </p:cNvPr>
          <p:cNvSpPr/>
          <p:nvPr/>
        </p:nvSpPr>
        <p:spPr>
          <a:xfrm>
            <a:off x="-1440" y="6678720"/>
            <a:ext cx="9144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"/>
                            </p:stCondLst>
                            <p:childTnLst>
                              <p:par>
                                <p:cTn id="8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"/>
                            </p:stCondLst>
                            <p:childTnLst>
                              <p:par>
                                <p:cTn id="11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"/>
                            </p:stCondLst>
                            <p:childTnLst>
                              <p:par>
                                <p:cTn id="14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"/>
                            </p:stCondLst>
                            <p:childTnLst>
                              <p:par>
                                <p:cTn id="17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"/>
                            </p:stCondLst>
                            <p:childTnLst>
                              <p:par>
                                <p:cTn id="23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00"/>
                            </p:stCondLst>
                            <p:childTnLst>
                              <p:par>
                                <p:cTn id="26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"/>
                            </p:stCondLst>
                            <p:childTnLst>
                              <p:par>
                                <p:cTn id="29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00"/>
                            </p:stCondLst>
                            <p:childTnLst>
                              <p:par>
                                <p:cTn id="32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00"/>
                            </p:stCondLst>
                            <p:childTnLst>
                              <p:par>
                                <p:cTn id="38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"/>
                            </p:stCondLst>
                            <p:childTnLst>
                              <p:par>
                                <p:cTn id="41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300"/>
                            </p:stCondLst>
                            <p:childTnLst>
                              <p:par>
                                <p:cTn id="44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00"/>
                            </p:stCondLst>
                            <p:childTnLst>
                              <p:par>
                                <p:cTn id="47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00"/>
                            </p:stCondLst>
                            <p:childTnLst>
                              <p:par>
                                <p:cTn id="53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700"/>
                            </p:stCondLst>
                            <p:childTnLst>
                              <p:par>
                                <p:cTn id="56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800"/>
                            </p:stCondLst>
                            <p:childTnLst>
                              <p:par>
                                <p:cTn id="59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900"/>
                            </p:stCondLst>
                            <p:childTnLst>
                              <p:par>
                                <p:cTn id="62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100"/>
                            </p:stCondLst>
                            <p:childTnLst>
                              <p:par>
                                <p:cTn id="68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200"/>
                            </p:stCondLst>
                            <p:childTnLst>
                              <p:par>
                                <p:cTn id="71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300"/>
                            </p:stCondLst>
                            <p:childTnLst>
                              <p:par>
                                <p:cTn id="74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400"/>
                            </p:stCondLst>
                            <p:childTnLst>
                              <p:par>
                                <p:cTn id="77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600"/>
                            </p:stCondLst>
                            <p:childTnLst>
                              <p:par>
                                <p:cTn id="83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700"/>
                            </p:stCondLst>
                            <p:childTnLst>
                              <p:par>
                                <p:cTn id="86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800"/>
                            </p:stCondLst>
                            <p:childTnLst>
                              <p:par>
                                <p:cTn id="89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900"/>
                            </p:stCondLst>
                            <p:childTnLst>
                              <p:par>
                                <p:cTn id="92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6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Plants get their energy from thi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7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Sunlight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se 2 things must be present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Sunlight and chlorophyll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se are the products of photosynthesi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Oxygen and Sugar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se 2 things combine during photosynthesi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Carbon dioxide and water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This is the definition of respiration</a:t>
            </a:r>
            <a:endParaRPr b="0" lang="en-US" sz="7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52280" y="0"/>
            <a:ext cx="586764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Let’s Play 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2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Stand up, push your chair in, and sit in teams of 4.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process through which energy is released when oxygen breaks down sugar</a:t>
            </a:r>
            <a:endParaRPr b="0" lang="en-US" sz="7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is part of the root stores food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Cortex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ater and minerals go up this part of the root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Xylem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is is the outermost layer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Epidermi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ater and minerals enter the root through thi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Root Hair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is is the layer between the xylem and phloem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Cambium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Food goes down this part of the stem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Phloem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Outermost layer of the stem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epidermi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Stems support these 2 thing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Flowers and leave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is type of plant has a hard, woody stem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ree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2 stems you eat besides celery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6"/>
          <p:cNvSpPr/>
          <p:nvPr/>
        </p:nvSpPr>
        <p:spPr>
          <a:xfrm>
            <a:off x="-144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Photosynthesi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ite potato, asparagus, sugarcane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is is the part of the leaf that carbon dioxide enter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stomata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Part of the leaf that connects it to a branch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petiole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Food making factories within leave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chloroplast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is is what guard cells do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Open and close the stomata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is is the definition of transpiration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Roots</a:t>
            </a: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Process through which water evaporates through the leaf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ype of root that forms network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fibrou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 chemical formula for water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 chemical formula for carbon dioxide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 name of the sugar formed in photosynthesi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-380880" y="1440"/>
            <a:ext cx="9140760" cy="6856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240" y="152280"/>
            <a:ext cx="9140760" cy="6856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Another name for a long chain of molecule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Stems</a:t>
            </a: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polymer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 name of the polymer made by plant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starch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eaves change color because they stop making _______.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chlorophyll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ere it is clearer and cooler leaves appear _____.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152280"/>
            <a:ext cx="9140760" cy="6856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ere it is warmer and more cloudy, leaves appear ______ and ______.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Yellow and orange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en you eat starchy food, the _____ in your spit break it down into glucose.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Leaves</a:t>
            </a: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Final</a:t>
            </a: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Jeopardy</a:t>
            </a: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PLANTS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 the chemical formula for photosynthesis?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>
            <a:hlinkClick r:id="" action="ppaction://hlinkshowjump?jump=endshow"/>
          </p:cNvPr>
          <p:cNvSpPr/>
          <p:nvPr/>
        </p:nvSpPr>
        <p:spPr>
          <a:xfrm>
            <a:off x="304920" y="0"/>
            <a:ext cx="9140760" cy="6856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+6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       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+ 60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3" name="Right Arrow 3"/>
          <p:cNvSpPr/>
          <p:nvPr/>
        </p:nvSpPr>
        <p:spPr>
          <a:xfrm>
            <a:off x="4572000" y="3276720"/>
            <a:ext cx="60948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3240"/>
            <a:ext cx="91440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Daily</a:t>
            </a: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Double!</a:t>
            </a: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4" dur="1" fill="hold"/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609480" y="19810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RANDOM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Other</a:t>
            </a: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Craig Coleman</dc:creator>
  <dc:description/>
  <dc:language>en-US</dc:language>
  <cp:lastModifiedBy>apiedra</cp:lastModifiedBy>
  <dcterms:modified xsi:type="dcterms:W3CDTF">2009-10-27T14:29:50Z</dcterms:modified>
  <cp:revision>120</cp:revision>
  <dc:subject/>
  <dc:title>Jeopardy Game</dc:title>
</cp:coreProperties>
</file>