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eopardy_theme.wav" ContentType="audio/x-wav"/>
  <Override PartName="/ppt/media/image2.jpeg" ContentType="image/jpeg"/>
  <Override PartName="/ppt/media/chime.wav" ContentType="audio/x-wav"/>
  <Override PartName="/ppt/media/thinkmusic.wav" ContentType="audio/x-wav"/>
  <Override PartName="/ppt/media/final_answer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9D64-C19C-45B5-843B-117C5B7D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0905-14D7-4CD2-80E3-1433D3002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opard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you begin editing, follow these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Outside of PowerPoint, make a duplicate copy of the Jeopardy folder and place it in the final location on your hard dr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You can rename the Jeopardy folder, however do not change the names of the files it cont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elect View, Notes Page to edit the game and remain in that view to read notes on editing the g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7C38-A8FA-4856-AA61-C5B2C57CC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 for each top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Do not change the location of the boxes or broken links will res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o access the Final Jeopardy question, click the black border at the bottom of the game board once all questions are answ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5BB-C118-4AB0-8EB0-98CAB38C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6C5C-1B35-4B7D-A641-52F397F4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C131-6054-4D20-A4EA-8816A72A8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DC0B-E50F-4CA7-93C6-9F71361DD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6A62-1632-43BB-8A2F-28ED982BA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1DE6-33FF-4A82-AF00-5FCF6A0A7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84BD-2675-46C0-B86C-8A24FFB5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505B-CC21-4BF1-AB83-C6DC7DCF6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5CE3-3ADC-4FB0-988B-0F280D281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80FC-58BF-4917-B0CA-D33E8C1B9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4F73-661D-43AB-8ADF-66BEEC8B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F23-D09B-4041-BAFE-870133026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88A1-1AE9-4B02-9F61-6197EE651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7535-9D42-4B9D-92C0-AF2901CB1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100-5F49-433A-8A20-014FA0FE7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CC57-3DD4-4BC9-AC9C-8B9CFAFE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4F18-62A8-42E7-9E74-99AF43F9C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50C7-3063-4EE2-9436-51E51A63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B41F-67D7-4900-9FBE-92DD6A2E9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872B-B12C-4CB1-A0E1-661AC2C63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1532-64EF-453D-A5C1-44A8E3E07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usic will stop on this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ure all teams are ready to beg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ready to introduce the top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72F6-5A68-4B3D-AD23-A91C4952F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A60-6EF8-4889-85E6-AB9CDDAF8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49B9-BE32-4D2F-98E2-F8A057D6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D6A1-71C2-46AC-9BD5-D6297BD4E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BECA-2946-4A99-A84E-244633C62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FD9F-D90F-4D2D-9C59-6E6F23EC2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9760-B55F-4A60-B7C2-92BA9E852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253E-4991-4CE1-AC3D-92FCE965F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146D-FCB3-4857-AC95-C4EC1C0D6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829E-AC36-4464-A6B3-1441CC16C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E11C-01D4-45BB-9264-13C356916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5962-AB64-47F0-BBEA-CB5BF333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C644-B435-43E7-9C7A-F582DC4B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1034-B0EC-445C-94FB-534C4A57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D9EA-2225-40D6-8E08-87F43ED7D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7B06-AE8A-4848-94ED-45ECAB02F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9CAD-E974-42A1-A11A-DB2955C8A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6729-F4B5-44F5-9A60-6E9A97CD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66B5-09CC-40F7-8775-9A59A02C4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4A23-B150-4E0E-BCA6-E0643F0B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B32B-D41C-4CF6-BCCE-6EA047C4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3178-7522-484A-A7AF-4C213F7EF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D062-1EF9-4436-B833-891937770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70D4-2BCE-404A-86CD-1C36C1777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3A8B-5C5A-4087-8BD5-499E3217B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8BD1-F29A-4BA9-A594-4C9A6FBA0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D351-1FDA-4B53-95BA-9FDC53242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D453-218F-4DAF-8784-74AB71C22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616A-50D6-47B7-9F03-992FDEB4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5BFA-2D2A-4CB2-8A1D-E6615933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9728-3074-41EC-9045-0DE6BDADC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4F38-84F3-417A-AF75-EC9EFDF7F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237-7B08-4A20-897E-DE2B4E13F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AC5F-F765-47EE-B553-3ABCAA0E9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29E-9A3B-45BD-BF8D-730031371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DCBA-776A-431A-98FB-49DEEB50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168A-3F88-431C-B301-69A99EDBE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6E3A-6C1D-4D9C-AFA2-08351F737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4F1F-2B33-444A-9E68-C3897B798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8770-365D-4B7A-BFB0-CDE237B78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7BD4-2FEB-4B09-BC03-7CB445900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05B1-936E-4CA4-9A54-757BE9FD1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9B08-7777-4BB7-8DFB-38EF43F95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Questio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5100-BBF4-402B-B4B5-ABBF15A13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5056-6DD1-44CA-BB69-E612891DC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 Answ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5089-E172-42BB-894C-CD5CECA69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 teams that have scores of zero or l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view the Final Jeopardy top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352F-47C9-4B17-AC43-5290F86A0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Have teams make their wager once the topic is presented. Click to view the question and begin the mus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E32-4F1F-4751-AD81-FF2D62A7E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Click when the music ends to view the ans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FAD-136B-4DEF-B0B0-5E5D258A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Jeopardy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4B98-487E-4D77-8BA3-7953CB8A5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Doubl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ll slides are complete, follow these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reate each of the two Daily Dou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ight-click and selec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o to the question slide you want to make a Daily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lick the question to select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lect Slide Show, Custom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On the right, select Add Effect, Entrance, 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elect Edit, P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enter the Daily Double box on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On the right, click the Up arrow at the bottom to move the Daily Double to the top of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16E0-62EB-42DB-9769-5CEA70AD3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3D4E-F546-46E2-8022-FFCE3596B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ic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hange the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-click the slid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ck the words and change the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0000"/>
          </a:bodyPr>
          <a:p>
            <a:pPr marL="27432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2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3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5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6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opardy_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11.xml"/><Relationship Id="rId6" Type="http://schemas.openxmlformats.org/officeDocument/2006/relationships/slide" Target="slide23.xml"/><Relationship Id="rId7" Type="http://schemas.openxmlformats.org/officeDocument/2006/relationships/slide" Target="slide25.xml"/><Relationship Id="rId8" Type="http://schemas.openxmlformats.org/officeDocument/2006/relationships/slide" Target="slide27.xml"/><Relationship Id="rId9" Type="http://schemas.openxmlformats.org/officeDocument/2006/relationships/slide" Target="slide29.xml"/><Relationship Id="rId10" Type="http://schemas.openxmlformats.org/officeDocument/2006/relationships/slide" Target="slide21.xml"/><Relationship Id="rId11" Type="http://schemas.openxmlformats.org/officeDocument/2006/relationships/slide" Target="slide33.xml"/><Relationship Id="rId12" Type="http://schemas.openxmlformats.org/officeDocument/2006/relationships/slide" Target="slide35.xml"/><Relationship Id="rId13" Type="http://schemas.openxmlformats.org/officeDocument/2006/relationships/slide" Target="slide37.xml"/><Relationship Id="rId14" Type="http://schemas.openxmlformats.org/officeDocument/2006/relationships/slide" Target="slide39.xml"/><Relationship Id="rId15" Type="http://schemas.openxmlformats.org/officeDocument/2006/relationships/slide" Target="slide31.xml"/><Relationship Id="rId16" Type="http://schemas.openxmlformats.org/officeDocument/2006/relationships/slide" Target="slide43.xml"/><Relationship Id="rId17" Type="http://schemas.openxmlformats.org/officeDocument/2006/relationships/slide" Target="slide45.xml"/><Relationship Id="rId18" Type="http://schemas.openxmlformats.org/officeDocument/2006/relationships/slide" Target="slide47.xml"/><Relationship Id="rId19" Type="http://schemas.openxmlformats.org/officeDocument/2006/relationships/slide" Target="slide49.xml"/><Relationship Id="rId20" Type="http://schemas.openxmlformats.org/officeDocument/2006/relationships/slide" Target="slide41.xml"/><Relationship Id="rId21" Type="http://schemas.openxmlformats.org/officeDocument/2006/relationships/slide" Target="slide53.xml"/><Relationship Id="rId22" Type="http://schemas.openxmlformats.org/officeDocument/2006/relationships/slide" Target="slide55.xml"/><Relationship Id="rId23" Type="http://schemas.openxmlformats.org/officeDocument/2006/relationships/slide" Target="slide57.xml"/><Relationship Id="rId24" Type="http://schemas.openxmlformats.org/officeDocument/2006/relationships/slide" Target="slide59.xml"/><Relationship Id="rId25" Type="http://schemas.openxmlformats.org/officeDocument/2006/relationships/slide" Target="slide51.xml"/><Relationship Id="rId26" Type="http://schemas.openxmlformats.org/officeDocument/2006/relationships/slide" Target="slide63.xml"/><Relationship Id="rId27" Type="http://schemas.openxmlformats.org/officeDocument/2006/relationships/slide" Target="slide65.xml"/><Relationship Id="rId28" Type="http://schemas.openxmlformats.org/officeDocument/2006/relationships/slide" Target="slide67.xml"/><Relationship Id="rId29" Type="http://schemas.openxmlformats.org/officeDocument/2006/relationships/slide" Target="slide69.xml"/><Relationship Id="rId30" Type="http://schemas.openxmlformats.org/officeDocument/2006/relationships/slide" Target="slide61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thinkmusic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final_answ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vert"/>
    <p:sndAc>
      <p:stSnd>
        <p:snd r:embed="rId2" name="jeopardy_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8252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8252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8252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825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825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621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1431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em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45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eav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10560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58664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825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66212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66212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66212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6621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6621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4316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14316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314316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31431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31431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62456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62456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462456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46245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46245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610560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610560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610560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610560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610560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7586640" y="25812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7586640" y="363996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7586640" y="46990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758664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758664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Rectangle 38">
            <a:hlinkClick r:id="rId31" action="ppaction://hlinksldjump"/>
          </p:cNvPr>
          <p:cNvSpPr/>
          <p:nvPr/>
        </p:nvSpPr>
        <p:spPr>
          <a:xfrm>
            <a:off x="-1440" y="6678720"/>
            <a:ext cx="9144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"/>
                            </p:stCondLst>
                            <p:childTnLst>
                              <p:par>
                                <p:cTn id="4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00"/>
                            </p:stCondLst>
                            <p:childTnLst>
                              <p:par>
                                <p:cTn id="7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00"/>
                            </p:stCondLst>
                            <p:childTnLst>
                              <p:par>
                                <p:cTn id="77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0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"/>
                            </p:stCondLst>
                            <p:childTnLst>
                              <p:par>
                                <p:cTn id="8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"/>
                            </p:stCondLst>
                            <p:childTnLst>
                              <p:par>
                                <p:cTn id="9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lants get their energy from th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ligh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2 things must be presen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light and chlorophyll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are the products of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xygen and Suga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se 2 things combine during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arbon dioxide and wat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is is the definition of respiration</a:t>
            </a:r>
            <a:endParaRPr b="0" lang="en-US" sz="7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0"/>
            <a:ext cx="58676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Let’s Play 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2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Stand up, push your chair in, and sit in teams of 4.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process through which energy is released when oxygen breaks down sugar</a:t>
            </a:r>
            <a:endParaRPr b="0" lang="en-US" sz="7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part of the root stores food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ortex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ater and minerals go up this part of the root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outermost lay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ater and minerals enter the root through th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oot Hair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layer between the xylem and phlo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ambiu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ood goes down this part of the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hlo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utermost layer of the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ems support these 2 thing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lowers and leav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type of plant has a hard, woody ste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 stems you eat besides celery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-144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ite potato, asparagus, sugarcan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part of the leaf that carbon dioxide enter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omata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rt of the leaf that connects it to a branch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ood making factories within leav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what guard cells do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Open and close the stomata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definition of transpiration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Root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rocess through which water evaporates through the leaf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ype of root that forms network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ibrou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emical formula for wat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emical formula for carbon dioxid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ame of the sugar formed in photosynthesi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380880" y="144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" y="15228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nother name for a long chain of molecul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Stem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olymer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ame of the polymer made by plant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eaves change color because they stop making __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chlorophyll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re it is clearer and cooler leaves appear 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5228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re it is warmer and more cloudy, leaves appear ______ and ______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Yellow and orange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en you eat starchy food, the _____ in your spit break it down into glucose.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Leaves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Final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PLANT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 the chemical formula for photosynthesis?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>
            <a:hlinkClick r:id="" action="ppaction://hlinkshowjump?jump=endshow"/>
          </p:cNvPr>
          <p:cNvSpPr/>
          <p:nvPr/>
        </p:nvSpPr>
        <p:spPr>
          <a:xfrm>
            <a:off x="30492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6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       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6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Right Arrow 3"/>
          <p:cNvSpPr/>
          <p:nvPr/>
        </p:nvSpPr>
        <p:spPr>
          <a:xfrm>
            <a:off x="4572000" y="327672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324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aily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ouble!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09480" y="1981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RANDOM</a:t>
            </a:r>
            <a:endParaRPr b="0" lang="en-US" sz="8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Other</a:t>
            </a:r>
            <a:endParaRPr b="0" lang="en-US" sz="1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raig Coleman</dc:creator>
  <dc:description/>
  <dc:language>en-US</dc:language>
  <cp:lastModifiedBy>apiedra</cp:lastModifiedBy>
  <dcterms:modified xsi:type="dcterms:W3CDTF">2009-10-27T14:29:50Z</dcterms:modified>
  <cp:revision>120</cp:revision>
  <dc:subject/>
  <dc:title>Jeopardy Game</dc:title>
</cp:coreProperties>
</file>