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eopardy_theme.wav" ContentType="audio/x-wav"/>
  <Override PartName="/ppt/media/image2.jpeg" ContentType="image/jpeg"/>
  <Override PartName="/ppt/media/chime.wav" ContentType="audio/x-wav"/>
  <Override PartName="/ppt/media/thinkmusic.wav" ContentType="audio/x-wav"/>
  <Override PartName="/ppt/media/final_answer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8B54-23D4-4C3C-8DBF-7E4556489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D8DE-A799-408A-98B0-AC3D5DBE2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opard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you begin editing, follow these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Outside of PowerPoint, make a duplicate copy of the Jeopardy folder and place it in the final location on your hard dr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You can rename the Jeopardy folder, however do not change the names of the files it conta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elect View, Notes Page to edit the game and remain in that view to read notes on editing the g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68E1-3179-40B2-927B-F8DD58267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me 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 for each top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Do not change the location of the boxes or broken links will res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o access the Final Jeopardy question, click the black border at the bottom of the game board once all questions are answ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2504-3E61-48E2-9327-2836EEDBB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EB52-E9F2-40EF-9675-EFC17AB8A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0D43-ED21-4CB4-A2F2-7B2B3BF49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0570-6918-42F5-9036-12D3E08C0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E855-CAA2-47D6-957C-111DF901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DA97-3B43-4CD8-918D-153F73E96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FD82-AA06-4668-9506-C01FB2BE3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D8D-83EF-481E-B8C6-A04C8A240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87AA-5806-4159-B340-9BBF4D808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F39B-0491-4763-A021-60AFAA0E2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A808-D5B0-4B7D-9E7B-1D0DD220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97C0-9E2A-4358-8CD8-F2080AD89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7048-C4BF-4EDA-B6AE-0271C2936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F6A0-9D2D-4C1D-A8EF-F9ED1DA99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706D-A9BE-46DB-9990-BD4A797CE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124-CF8D-4B01-BF1A-C7C198366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C304-CED9-42FC-9F3E-FD7E739DB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73F6-AE4D-4DE4-B8DB-CAC25112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A9AA-5675-4505-97AB-370ED241E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6994-CF5C-42FB-B7CA-3FE43B5CA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54EE-C4F8-4BA5-B212-7AA900420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usic will stop on this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ure all teams are ready to beg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ready to introduce the top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2ECF-FBC1-405B-AE6D-08533D7D7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A7E6-6B7F-4E49-9113-0A171259D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33C1-6158-4F85-BC85-272C59EB6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260E-BB3C-4BD3-AB1C-0CD2842ED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666A-87FB-43BD-B489-630054C0B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2C2-5EE2-4F7E-9239-FA91E0E7F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DF8F-27B3-40BB-B5B2-CAFC82277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06D6-979A-4D97-922E-CECA950EB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A732-751D-4E9F-AB98-4A26ABA3A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6A5B-E3B0-4CD8-B23F-6CA82AE7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4E9D-7E6C-41F5-B14B-CBA213DF4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5C61-D36E-485C-9F04-A9A0882B8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4B67-E984-49AE-8FCD-B509642DF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208-7396-4AE8-BCA7-59492DE3C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3A76-7203-4FCF-BCFC-B23DDEB1C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7B35-0D04-4060-BC6C-B68E6B630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347E-114F-48BB-938C-99D6AFB3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4F40-885D-4B82-9D83-BB0A7C5B6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F3E6-DF74-491D-819D-3978ADC4B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C620-1170-4B35-A04E-58EF21BBC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0F61-77B8-4913-BEB9-F897ACAF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232-9A7C-4B3D-A6E6-FBF2DEC83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9332-745B-4666-908A-D557A0D8F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BA82-FA7D-402F-9B9E-47B9EF43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79E6-C55D-4E1A-BD2D-9C437473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5330-7EA1-4C48-93CE-4791A2C6F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8C41-81A6-40B4-BC48-F5F1D2754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1DF7-C7CD-4A07-BDE6-44E4AF76F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A097-ECA9-4E67-A151-17B72381E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7EE-1D02-4FDD-962F-F8206B3E6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F2D3-AFD3-4C5A-9A0E-07C2E8CC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AC76-EB5F-4025-A5A9-A1029F5A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D3E6-8D07-478F-9936-94288D05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A243-C6F2-4F52-9D6E-FA974513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A48F-900A-429D-9A6D-5AE18C0CD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EA3-D53B-4579-B487-4FED7090C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5395-36BC-4AEC-ADDD-880424DDB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7304-87D3-4843-B45D-A5A1C19CA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12B3-1B6D-444E-9898-5B93DBC39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D25B-3F5D-4039-8775-37F380C4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FF60-7BD6-46AA-B795-CFB28105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BC31-B417-42B9-BB4E-D941C3C5E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BAEF-589D-4A0D-BD6B-7816EE92E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9254-CE45-461B-A294-422EFDE03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E700-4184-45DB-BC76-E618420CC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E651-629E-4028-A767-99BE4BED4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 teams that have scores of zero or l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he view the Final Jeopardy top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3087-54D8-48FC-BCBE-BFB0EACCF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Have teams make their wager once the topic is presented. Click to view the question and begin the mus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3F18-CDB2-4014-8D06-C486EFB55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Qu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Click when the music ends to view the ans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D8A0-CFBC-40A5-B63D-31011E589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FB10-33FD-4962-9D73-051FEB62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Doubl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ll slides are complete, follow these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reate each of the two Daily Dou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ight-click and selec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o to the question slide you want to make a Daily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lick the question to select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lect Slide Show, Custom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On the right, select Add Effect, Entrance, 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elect Edit, P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enter the Daily Double box on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On the right, click the Up arrow at the bottom to move the Daily Double to the top of th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CEA3-FCA3-4C5E-8FDF-7D0031C9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352F-3219-4D0E-BFB8-2269A000E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0000"/>
          </a:bodyPr>
          <a:p>
            <a:pPr marL="27432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2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3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4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5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6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opardy_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11.xml"/><Relationship Id="rId6" Type="http://schemas.openxmlformats.org/officeDocument/2006/relationships/slide" Target="slide23.xml"/><Relationship Id="rId7" Type="http://schemas.openxmlformats.org/officeDocument/2006/relationships/slide" Target="slide25.xml"/><Relationship Id="rId8" Type="http://schemas.openxmlformats.org/officeDocument/2006/relationships/slide" Target="slide27.xml"/><Relationship Id="rId9" Type="http://schemas.openxmlformats.org/officeDocument/2006/relationships/slide" Target="slide29.xml"/><Relationship Id="rId10" Type="http://schemas.openxmlformats.org/officeDocument/2006/relationships/slide" Target="slide21.xml"/><Relationship Id="rId11" Type="http://schemas.openxmlformats.org/officeDocument/2006/relationships/slide" Target="slide33.xml"/><Relationship Id="rId12" Type="http://schemas.openxmlformats.org/officeDocument/2006/relationships/slide" Target="slide35.xml"/><Relationship Id="rId13" Type="http://schemas.openxmlformats.org/officeDocument/2006/relationships/slide" Target="slide37.xml"/><Relationship Id="rId14" Type="http://schemas.openxmlformats.org/officeDocument/2006/relationships/slide" Target="slide39.xml"/><Relationship Id="rId15" Type="http://schemas.openxmlformats.org/officeDocument/2006/relationships/slide" Target="slide31.xml"/><Relationship Id="rId16" Type="http://schemas.openxmlformats.org/officeDocument/2006/relationships/slide" Target="slide43.xml"/><Relationship Id="rId17" Type="http://schemas.openxmlformats.org/officeDocument/2006/relationships/slide" Target="slide45.xml"/><Relationship Id="rId18" Type="http://schemas.openxmlformats.org/officeDocument/2006/relationships/slide" Target="slide47.xml"/><Relationship Id="rId19" Type="http://schemas.openxmlformats.org/officeDocument/2006/relationships/slide" Target="slide49.xml"/><Relationship Id="rId20" Type="http://schemas.openxmlformats.org/officeDocument/2006/relationships/slide" Target="slide41.xml"/><Relationship Id="rId21" Type="http://schemas.openxmlformats.org/officeDocument/2006/relationships/slide" Target="slide53.xml"/><Relationship Id="rId22" Type="http://schemas.openxmlformats.org/officeDocument/2006/relationships/slide" Target="slide55.xml"/><Relationship Id="rId23" Type="http://schemas.openxmlformats.org/officeDocument/2006/relationships/slide" Target="slide57.xml"/><Relationship Id="rId24" Type="http://schemas.openxmlformats.org/officeDocument/2006/relationships/slide" Target="slide59.xml"/><Relationship Id="rId25" Type="http://schemas.openxmlformats.org/officeDocument/2006/relationships/slide" Target="slide51.xml"/><Relationship Id="rId26" Type="http://schemas.openxmlformats.org/officeDocument/2006/relationships/slide" Target="slide63.xml"/><Relationship Id="rId27" Type="http://schemas.openxmlformats.org/officeDocument/2006/relationships/slide" Target="slide65.xml"/><Relationship Id="rId28" Type="http://schemas.openxmlformats.org/officeDocument/2006/relationships/slide" Target="slide67.xml"/><Relationship Id="rId29" Type="http://schemas.openxmlformats.org/officeDocument/2006/relationships/slide" Target="slide69.xml"/><Relationship Id="rId30" Type="http://schemas.openxmlformats.org/officeDocument/2006/relationships/slide" Target="slide61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thinkmusic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final_answ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vert"/>
    <p:sndAc>
      <p:stSnd>
        <p:snd r:embed="rId2" name="jeopardy_th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8252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8252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8252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825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825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621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1431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em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245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eav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10560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58664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825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66212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66212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66212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6621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6621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14316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14316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314316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31431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31431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462456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462456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462456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46245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46245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610560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610560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610560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610560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610560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758664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758664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758664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758664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758664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Rectangle 38">
            <a:hlinkClick r:id="rId31" action="ppaction://hlinksldjump"/>
          </p:cNvPr>
          <p:cNvSpPr/>
          <p:nvPr/>
        </p:nvSpPr>
        <p:spPr>
          <a:xfrm>
            <a:off x="-1440" y="6678720"/>
            <a:ext cx="9144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"/>
                            </p:stCondLst>
                            <p:childTnLst>
                              <p:par>
                                <p:cTn id="4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300"/>
                            </p:stCondLst>
                            <p:childTnLst>
                              <p:par>
                                <p:cTn id="7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400"/>
                            </p:stCondLst>
                            <p:childTnLst>
                              <p:par>
                                <p:cTn id="7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0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"/>
                            </p:stCondLst>
                            <p:childTnLst>
                              <p:par>
                                <p:cTn id="8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"/>
                            </p:stCondLst>
                            <p:childTnLst>
                              <p:par>
                                <p:cTn id="9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lants get their energy from th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unligh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2 things must be presen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unlight and chlorophyll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are the products of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xygen and Suga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2 things combine during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arbon dioxide and wat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is is the definition of respiration</a:t>
            </a:r>
            <a:endParaRPr b="0" lang="en-US" sz="7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0"/>
            <a:ext cx="58676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Let’s Play 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2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Stand up, push your chair in, and sit in teams of 4.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process through which energy is released when oxygen breaks down sugar</a:t>
            </a:r>
            <a:endParaRPr b="0" lang="en-US" sz="7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part of the root stores food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ortex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ater and minerals go up this part of the roo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outermost lay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ater and minerals enter the root through th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oot Hair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layer between the xylem and phlo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ambiu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ood goes down this part of the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hlo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utermost layer of the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ems support these 2 thing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lowers and leav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type of plant has a hard, woody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 stems you eat besides celery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-144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ite potato, asparagus, sugarcan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part of the leaf that carbon dioxide enter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omata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rt of the leaf that connects it to a branch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ood making factories within leav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what guard cells do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pen and close the stomata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definition of transpiration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Root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rocess through which water evaporates through the leaf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ype of root that forms network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ibrou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chemical formula for wat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chemical formula for carbon dioxid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name of the sugar formed in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-380880" y="144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" y="15228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nother name for a long chain of molecul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Stem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olym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name of the polymer made by plant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eaves change color because they stop making __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hlorophyll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re it is clearer and cooler leaves appear 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5228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re it is warmer and more cloudy, leaves appear ______ and _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Yellow and orang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n you eat starchy food, the _____ in your spit break it down into glucose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Leave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Final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PLANT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 the chemical formula for photosynthesis?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>
            <a:hlinkClick r:id="" action="ppaction://hlinkshowjump?jump=endshow"/>
          </p:cNvPr>
          <p:cNvSpPr/>
          <p:nvPr/>
        </p:nvSpPr>
        <p:spPr>
          <a:xfrm>
            <a:off x="304920" y="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6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       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 6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Right Arrow 3"/>
          <p:cNvSpPr/>
          <p:nvPr/>
        </p:nvSpPr>
        <p:spPr>
          <a:xfrm>
            <a:off x="4572000" y="327672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324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aily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ouble!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09480" y="1981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RANDO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Other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raig Coleman</dc:creator>
  <dc:description/>
  <dc:language>en-US</dc:language>
  <cp:lastModifiedBy>apiedra</cp:lastModifiedBy>
  <dcterms:modified xsi:type="dcterms:W3CDTF">2009-10-27T14:29:50Z</dcterms:modified>
  <cp:revision>120</cp:revision>
  <dc:subject/>
  <dc:title>Jeopardy Game</dc:title>
</cp:coreProperties>
</file>