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eopardy_theme.wav" ContentType="audio/x-wav"/>
  <Override PartName="/ppt/media/image2.jpeg" ContentType="image/jpeg"/>
  <Override PartName="/ppt/media/chime.wav" ContentType="audio/x-wav"/>
  <Override PartName="/ppt/media/thinkmusic.wav" ContentType="audio/x-wav"/>
  <Override PartName="/ppt/media/final_answer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C223-53D7-4D2C-B3B9-2AA3248B3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45E6-1268-4904-A055-2D2717522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eopard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you begin editing, follow these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Outside of PowerPoint, make a duplicate copy of the Jeopardy folder and place it in the final location on your hard dr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You can rename the Jeopardy folder, however do not change the names of the files it conta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elect View, Notes Page to edit the game and remain in that view to read notes on editing the g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811A-8E8B-4512-AFBA-99EC207FF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me 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 for each top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Do not change the location of the boxes or broken links will resu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To access the Final Jeopardy question, click the black border at the bottom of the game board once all questions are answ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FF8B-5806-4245-A3D3-5D13813D3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8EFB-775A-49B9-84F3-674F580DD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C0FA-F006-4067-B5D1-A5032F18B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B7D0-4BEC-441D-A5A8-42CDD9852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5E2E-9007-460C-B106-E8889BC6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E12A-83C0-44DB-B01A-B6F65A41E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C7FC-F0E8-4D16-9136-CDA57F556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E433-34F1-451C-AF44-A326DC474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0A25-5A99-4547-BC54-5A64A0392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C23A-B4B2-4D8F-9F46-5DEBDEBC2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T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BD09-0760-4531-A974-A5C8FF048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29F8-DE35-41D5-B1B8-4E97E2ECE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6292-0575-4B10-AFFB-03C2E24BF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0AAF-328B-4EA2-9E59-EAA920524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0888-B3A0-4194-A6AD-8FD9FA377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140C-84DE-4BAA-96A5-41F40C2D2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0616-A7B5-4D17-B1B9-0B9AEC966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6BD9-AFF1-4BF2-9428-F19BC5237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BC97-C416-4A8C-A347-7DE7AC840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19E8-8EE5-460B-A51A-807CF8678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CC9B-D1B8-4846-82A3-19A3FFC22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usic will stop on this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ure all teams are ready to beg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ready to introduce the top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4529-2415-479E-B36A-4FA981D24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4C17-E658-4A28-A781-7C936CDCA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ACE6-A51E-454C-83ED-72EBA8744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6A71-0893-4D63-96A5-D2F41CCD8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B956-1955-4E84-8093-691A4D8F0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3BF9-59AE-4F17-975C-6E3A4E2FF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78C4-613B-4323-A5D6-CD98161C9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2AC7-D834-44FF-B76C-55601B892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92E2-3F25-4463-B470-649E8390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4320-9F5A-4253-9451-57654CAEF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2EA6-85A0-47E7-BC02-4D2D3FF16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8E1A-D34F-4973-8DB6-A63A58DE6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F7E4-C1C1-4836-8448-D283D6B0A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F0D1-ABBC-4674-BEC2-5EBBDF8FC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ED95-DA1D-40AA-9887-38FA03518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1A7D-6193-4554-A0DA-5DC40C208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2375-6AFA-417D-80B7-81372EBAC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2C49-D09C-47D5-B4BF-586E7EE99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E746-720C-4348-BAA7-ABA2CA6A4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A64C-A14B-4FE5-9BB0-E3B400DB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FFCB-DAC1-4EAF-AA9A-9E026CE2C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DA2A-81C0-4680-9865-3C54472CB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AFDF-5558-4133-8610-6A4FC505A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BB9B-8F69-478F-83D5-3593158F1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ACB9-E090-4C05-8E77-11769A47E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F054-74FD-437B-BBEB-26480F12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A48D-2366-4D97-A93F-7AB3BB42C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0D8B-D5A3-4FE3-8AA3-BDE994A04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660A-8F22-4D13-BD65-B528B09C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15C1-910D-4906-BD0B-1AA974A5B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C71E-495D-4052-BE79-3DAA77AD8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118C-B349-44EF-BEE8-A91D71D10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F31C-3DCB-4125-97FA-69E382E1F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775F-38EA-4E84-9945-89B8BD676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C118-83A1-4C97-8BE1-667C3284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81EB-9409-4EE2-8B12-7CB4F9534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04A4-34ED-472B-9B06-7494E4C15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0016-A822-4B92-8077-764C2BF9C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8705-F07F-4027-B410-2ED0991B0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4203-E285-4C7F-A101-2A7CD48D4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5A70-18D6-4841-BBD7-05843794B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9DFF-671B-4131-A360-DFEADF056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E6E6-7DDE-4E18-8B7C-F5D1DA252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38E9-1F01-4C6D-A087-B9F5A2F41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D41A-F984-4ED9-865D-A43B349C1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FC07-E3EC-4FC3-B336-D574C782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 teams that have scores of zero or l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he view the Final Jeopardy top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A95B-56F0-4F01-8F53-973B42115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Have teams make their wager once the topic is presented. Click to view the question and begin the mus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C847-1140-4E4F-9831-996AD383F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Qu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Click when the music ends to view the ans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D9F1-B03A-4A5F-BA6B-3F30D1C70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5AA8-6916-4216-87C3-9E9351ECE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ily Doubl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ll slides are complete, follow these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reate each of the two Daily Dou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ight-click and select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o to the question slide you want to make a Daily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lick the question to select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lect Slide Show, Custom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On the right, select Add Effect, Entrance, 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elect Edit, P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enter the Daily Double box on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On the right, click the Up arrow at the bottom to move the Daily Double to the top of th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F3B1-D489-4CBA-9D51-B072C3284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3BD2-58C1-4D2D-8949-6BBC60090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80000"/>
          </a:bodyPr>
          <a:p>
            <a:pPr marL="27432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2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3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4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5" marL="274320" indent="-27432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6" marL="274320" indent="-27432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opardy_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" Target="slide11.xml"/><Relationship Id="rId6" Type="http://schemas.openxmlformats.org/officeDocument/2006/relationships/slide" Target="slide23.xml"/><Relationship Id="rId7" Type="http://schemas.openxmlformats.org/officeDocument/2006/relationships/slide" Target="slide25.xml"/><Relationship Id="rId8" Type="http://schemas.openxmlformats.org/officeDocument/2006/relationships/slide" Target="slide27.xml"/><Relationship Id="rId9" Type="http://schemas.openxmlformats.org/officeDocument/2006/relationships/slide" Target="slide29.xml"/><Relationship Id="rId10" Type="http://schemas.openxmlformats.org/officeDocument/2006/relationships/slide" Target="slide21.xml"/><Relationship Id="rId11" Type="http://schemas.openxmlformats.org/officeDocument/2006/relationships/slide" Target="slide33.xml"/><Relationship Id="rId12" Type="http://schemas.openxmlformats.org/officeDocument/2006/relationships/slide" Target="slide35.xml"/><Relationship Id="rId13" Type="http://schemas.openxmlformats.org/officeDocument/2006/relationships/slide" Target="slide37.xml"/><Relationship Id="rId14" Type="http://schemas.openxmlformats.org/officeDocument/2006/relationships/slide" Target="slide39.xml"/><Relationship Id="rId15" Type="http://schemas.openxmlformats.org/officeDocument/2006/relationships/slide" Target="slide31.xml"/><Relationship Id="rId16" Type="http://schemas.openxmlformats.org/officeDocument/2006/relationships/slide" Target="slide43.xml"/><Relationship Id="rId17" Type="http://schemas.openxmlformats.org/officeDocument/2006/relationships/slide" Target="slide45.xml"/><Relationship Id="rId18" Type="http://schemas.openxmlformats.org/officeDocument/2006/relationships/slide" Target="slide47.xml"/><Relationship Id="rId19" Type="http://schemas.openxmlformats.org/officeDocument/2006/relationships/slide" Target="slide49.xml"/><Relationship Id="rId20" Type="http://schemas.openxmlformats.org/officeDocument/2006/relationships/slide" Target="slide41.xml"/><Relationship Id="rId21" Type="http://schemas.openxmlformats.org/officeDocument/2006/relationships/slide" Target="slide53.xml"/><Relationship Id="rId22" Type="http://schemas.openxmlformats.org/officeDocument/2006/relationships/slide" Target="slide55.xml"/><Relationship Id="rId23" Type="http://schemas.openxmlformats.org/officeDocument/2006/relationships/slide" Target="slide57.xml"/><Relationship Id="rId24" Type="http://schemas.openxmlformats.org/officeDocument/2006/relationships/slide" Target="slide59.xml"/><Relationship Id="rId25" Type="http://schemas.openxmlformats.org/officeDocument/2006/relationships/slide" Target="slide51.xml"/><Relationship Id="rId26" Type="http://schemas.openxmlformats.org/officeDocument/2006/relationships/slide" Target="slide63.xml"/><Relationship Id="rId27" Type="http://schemas.openxmlformats.org/officeDocument/2006/relationships/slide" Target="slide65.xml"/><Relationship Id="rId28" Type="http://schemas.openxmlformats.org/officeDocument/2006/relationships/slide" Target="slide67.xml"/><Relationship Id="rId29" Type="http://schemas.openxmlformats.org/officeDocument/2006/relationships/slide" Target="slide69.xml"/><Relationship Id="rId30" Type="http://schemas.openxmlformats.org/officeDocument/2006/relationships/slide" Target="slide61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thinkmusic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final_answ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Bar dir="vert"/>
    <p:sndAc>
      <p:stSnd>
        <p:snd r:embed="rId2" name="jeopardy_the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8252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8252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8252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8252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8252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6212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14316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em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2456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eav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10560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58664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OTHER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8252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66212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166212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66212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66212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66212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14316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14316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314316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314316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314316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462456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462456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462456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462456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462456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610560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610560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610560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610560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610560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Text Box 33"/>
          <p:cNvSpPr/>
          <p:nvPr/>
        </p:nvSpPr>
        <p:spPr>
          <a:xfrm>
            <a:off x="758664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758664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758664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758664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758664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Rectangle 38">
            <a:hlinkClick r:id="rId31" action="ppaction://hlinksldjump"/>
          </p:cNvPr>
          <p:cNvSpPr/>
          <p:nvPr/>
        </p:nvSpPr>
        <p:spPr>
          <a:xfrm>
            <a:off x="-1440" y="6678720"/>
            <a:ext cx="9144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"/>
                            </p:stCondLst>
                            <p:childTnLst>
                              <p:par>
                                <p:cTn id="4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0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"/>
                            </p:stCondLst>
                            <p:childTnLst>
                              <p:par>
                                <p:cTn id="4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"/>
                            </p:stCondLst>
                            <p:childTnLst>
                              <p:par>
                                <p:cTn id="5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"/>
                            </p:stCondLst>
                            <p:childTnLst>
                              <p:par>
                                <p:cTn id="6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00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300"/>
                            </p:stCondLst>
                            <p:childTnLst>
                              <p:par>
                                <p:cTn id="7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400"/>
                            </p:stCondLst>
                            <p:childTnLst>
                              <p:par>
                                <p:cTn id="7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00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"/>
                            </p:stCondLst>
                            <p:childTnLst>
                              <p:par>
                                <p:cTn id="8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00"/>
                            </p:stCondLst>
                            <p:childTnLst>
                              <p:par>
                                <p:cTn id="9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lants get their energy from th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7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unligh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2 things must be presen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unlight and chlorophyll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are the products of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xygen and Suga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2 things combine during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arbon dioxide and wat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is is the definition of respiration</a:t>
            </a:r>
            <a:endParaRPr b="0" lang="en-US" sz="7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0"/>
            <a:ext cx="58676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Let’s Play 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2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Stand up, push your chair in, and sit in teams of 4.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process through which energy is released when oxygen breaks down sugar</a:t>
            </a:r>
            <a:endParaRPr b="0" lang="en-US" sz="7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part of the root stores food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ortex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ater and minerals go up this part of the roo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outermost lay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piderm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ater and minerals enter the root through th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oot Hair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layer between the xylem and phlo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ambiu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ood goes down this part of the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hlo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utermost layer of the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piderm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ems support these 2 thing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lowers and leav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type of plant has a hard, woody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 stems you eat besides celery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-144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ite potato, asparagus, sugarcan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part of the leaf that carbon dioxide enter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omata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art of the leaf that connects it to a branch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ood making factories within leav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what guard cells do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pen and close the stomata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definition of transpiration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Root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rocess through which water evaporates through the leaf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ype of root that forms network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ibrou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chemical formula for wat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chemical formula for carbon dioxid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name of the sugar formed in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-380880" y="144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40" y="15228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nother name for a long chain of molecul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Stem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olym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name of the polymer made by plant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arch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eaves change color because they stop making __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hlorophyll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re it is clearer and cooler leaves appear 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5228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re it is warmer and more cloudy, leaves appear ______ and _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Yellow and orang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n you eat starchy food, the _____ in your spit break it down into glucose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Leave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Final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PLANT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 the chemical formula for photosynthesis?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>
            <a:hlinkClick r:id="" action="ppaction://hlinkshowjump?jump=endshow"/>
          </p:cNvPr>
          <p:cNvSpPr/>
          <p:nvPr/>
        </p:nvSpPr>
        <p:spPr>
          <a:xfrm>
            <a:off x="304920" y="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6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       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 6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3" name="Right Arrow 3"/>
          <p:cNvSpPr/>
          <p:nvPr/>
        </p:nvSpPr>
        <p:spPr>
          <a:xfrm>
            <a:off x="4572000" y="3276720"/>
            <a:ext cx="6094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324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aily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ouble!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09480" y="1981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RANDO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Other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raig Coleman</dc:creator>
  <dc:description/>
  <dc:language>en-US</dc:language>
  <cp:lastModifiedBy>apiedra</cp:lastModifiedBy>
  <dcterms:modified xsi:type="dcterms:W3CDTF">2009-10-27T14:29:50Z</dcterms:modified>
  <cp:revision>120</cp:revision>
  <dc:subject/>
  <dc:title>Jeopardy Game</dc:title>
</cp:coreProperties>
</file>